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1EE3-8805-47BD-8846-E32700DC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DEC7-1DEF-45C5-828A-7D2BC343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060-8F1B-4EA5-9803-DE703FE3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C39-D1A6-441B-947E-A64F25FD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5A54-860C-4976-B4BA-6DB45A02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F7FD-C0CB-441A-B551-9CAA914D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AAE7-AFB6-4F42-8217-3BD86C19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072B-3CD6-4057-9D17-A18D2094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38D5-261B-4393-B6D0-5AD75338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B6EB-96FF-4602-B6FE-0E6B727C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04DC-3875-4567-9BDC-87D3276C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8B0-FE45-4FC4-B019-5FB3F9A9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D08F-7E45-4EFB-A853-BD6E9C7C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1F90-BDB3-4368-A931-01C3630B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2420-97EC-4AEB-A793-0C0C5010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B1DF-C555-4C9F-8E1C-FCD86136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A83E-7DC0-4289-BDA0-0CA8A8AB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DA235-D9F8-4477-A557-786C88A4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BBCFF-5815-4F68-B877-376C1866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105C4-D9DE-4129-82CF-F5065AA6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B907D-2DC1-4AF3-9775-2A488F96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4268C-D59D-4553-9857-D7D22BA1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FDAA-9C52-4895-A843-27B1DB91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3B6A4-84A0-4A43-AC27-0FB65915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EC737-B9B8-41B5-A491-28A97E71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BFFB0-0FC8-46E2-A9BE-69D38CEC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8D05F-25F5-460B-962F-02EB6988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1A0C5-CE25-4123-89C1-79078ED9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7A3E7-9BA0-406D-9EC9-6A1BA594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8A880-8E6C-42B0-A7D5-66E0E00F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D6F1F-C2BF-4389-A731-36C6C2F4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E1580-4558-4256-A372-60C6C0FB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AA88A-65F8-467D-BC9D-D685AB5C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C44-53D4-424E-B30D-E7D9417C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3994A-8DD9-4E66-B041-3820C86F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63FE0-5684-44CE-A4C3-1A7DA168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9D329-EDE4-4B24-83A7-907B4133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805A5-DCFA-40BC-B6CC-E915DC55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7B35A-CE7B-4CF4-8959-C5E2BFC1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D65FB-FA23-4AA8-B5A0-186DC3EA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30981-53A1-4808-B1BF-513C79A7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12A9A-D5F7-4BFB-A9D1-5B10B84C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51A5B-640F-4755-9441-6F497CBE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8201-AD36-4CF8-BC7E-0017DC08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3B5-65B7-4FFE-A214-21292BDF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EF54-94AB-4A31-B4EF-455D1B31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9F6-3C65-4754-B04D-CF70177B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BA4F-82A8-40D9-A632-18A9E84F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F0F6-E77A-4CF0-AC02-AF280DED65D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C552-976E-454C-8B6E-17B012A892E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46C5-62DA-48EC-8FEC-3408BE9E99F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547C-30F4-4EB6-91BE-0A391838D2A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rezentarea%20proiectului%20pentru%20elevi-Teo.ppt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Plan_unitate/Plan%20unitate-Teo.doc" TargetMode="External"/><Relationship Id="rId2" Type="http://schemas.openxmlformats.org/officeDocument/2006/relationships/hyperlink" Target="file:///../Aplica&#539;ie_elev/Exemplu%20din%20perspectiva%20elevului/exemplu%20din%20perspectiva%20elevului-Teo.ppt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storietd.wikispaces.com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u 1" descr=""/>
          <p:cNvPicPr/>
          <p:nvPr/>
        </p:nvPicPr>
        <p:blipFill>
          <a:blip r:embed="rId1"/>
          <a:stretch/>
        </p:blipFill>
        <p:spPr>
          <a:xfrm>
            <a:off x="420840" y="1066680"/>
            <a:ext cx="8242200" cy="1865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28840" y="2857320"/>
            <a:ext cx="6400800" cy="12855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 Black"/>
              </a:rPr>
              <a:t>Revolu</a:t>
            </a:r>
            <a:r>
              <a:rPr b="1" lang="ro-RO" sz="3200" spc="-1" strike="noStrike">
                <a:solidFill>
                  <a:srgbClr val="c00000"/>
                </a:solidFill>
                <a:latin typeface="Arial Black"/>
              </a:rPr>
              <a:t>ți</a:t>
            </a:r>
            <a:r>
              <a:rPr b="1" lang="en-US" sz="3200" spc="-1" strike="noStrike">
                <a:solidFill>
                  <a:srgbClr val="c00000"/>
                </a:solidFill>
                <a:latin typeface="Arial Black"/>
              </a:rPr>
              <a:t>ile Epocii Modern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CasetăText 3"/>
          <p:cNvSpPr/>
          <p:nvPr/>
        </p:nvSpPr>
        <p:spPr>
          <a:xfrm>
            <a:off x="66960" y="6000840"/>
            <a:ext cx="20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7030a0"/>
                </a:solidFill>
                <a:latin typeface="Bernard MT Condensed"/>
              </a:rPr>
              <a:t>Disciplina–Ist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7030a0"/>
                </a:solidFill>
                <a:latin typeface="Bernard MT Condensed"/>
              </a:rPr>
              <a:t>Clasa:  aVI 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setăText 4"/>
          <p:cNvSpPr/>
          <p:nvPr/>
        </p:nvSpPr>
        <p:spPr>
          <a:xfrm>
            <a:off x="428760" y="785880"/>
            <a:ext cx="54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coala cu cls.I-VII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vel D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Tritenii de 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asetăText 5"/>
          <p:cNvSpPr/>
          <p:nvPr/>
        </p:nvSpPr>
        <p:spPr>
          <a:xfrm>
            <a:off x="5838480" y="60721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7030a0"/>
                </a:solidFill>
                <a:latin typeface="Bernard MT Condensed"/>
              </a:rPr>
              <a:t>Profesor : Duca Teo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u 1" descr=""/>
          <p:cNvPicPr/>
          <p:nvPr/>
        </p:nvPicPr>
        <p:blipFill>
          <a:blip r:embed="rId1"/>
          <a:stretch/>
        </p:blipFill>
        <p:spPr>
          <a:xfrm>
            <a:off x="249120" y="1627200"/>
            <a:ext cx="86868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Idealul revoluționar</a:t>
            </a:r>
            <a:br>
              <a:rPr sz="5000"/>
            </a:br>
            <a:r>
              <a:rPr b="0" lang="ro-RO" sz="18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rezentarea proiectului pentru elevi-Teo.ppt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Content Placeholder 4" descr="-Declaration_of_Human_Rights"/>
          <p:cNvPicPr/>
          <p:nvPr/>
        </p:nvPicPr>
        <p:blipFill>
          <a:blip r:embed="rId2"/>
          <a:stretch/>
        </p:blipFill>
        <p:spPr>
          <a:xfrm>
            <a:off x="428760" y="2071800"/>
            <a:ext cx="82864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4617b"/>
                </a:solidFill>
                <a:latin typeface="Arial Black"/>
              </a:rPr>
              <a:t>Întrebări cheie: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28556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 Black"/>
                <a:ea typeface="Arial"/>
              </a:rPr>
              <a:t>Întrebare esenţial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um pot fi evitate greșelile trecutului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o-RO" sz="2000" spc="-1" strike="noStrike">
                <a:solidFill>
                  <a:srgbClr val="000000"/>
                </a:solidFill>
                <a:latin typeface="Arial Black"/>
                <a:ea typeface="Arial"/>
              </a:rPr>
              <a:t>Întrebările unitatăţii de învăţa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um se reflectă in istorie idealul revoluționar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Revolutiile burgheze duc la progres sau la regre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 Black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 Black"/>
                <a:ea typeface="Arial"/>
              </a:rPr>
              <a:t>Întrebări de conţinu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are sunt cauzele mișcărilor revoluționare burghez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xistă asemănări și deosebiri între cele 3 mișcări revoluționar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e personalități revoluționare se afirmă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xistă momente memorabile 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Sunt importante mișcarile revoluționar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are sunt urmările mișcărilor revoluționar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CasetăText 3"/>
          <p:cNvSpPr/>
          <p:nvPr/>
        </p:nvSpPr>
        <p:spPr>
          <a:xfrm>
            <a:off x="5248800" y="5929200"/>
            <a:ext cx="37072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e2d700"/>
                </a:solidFill>
                <a:uFillTx/>
                <a:latin typeface="Book Antiqua"/>
                <a:hlinkClick r:id="rId1"/>
              </a:rPr>
              <a:t>Plan unitate de inva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e2d700"/>
                </a:solidFill>
                <a:uFillTx/>
                <a:latin typeface="Book Antiqua"/>
                <a:hlinkClick r:id="rId2"/>
              </a:rPr>
              <a:t>Exemplu din perspectiva elev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500" spc="-1" strike="noStrike">
                <a:solidFill>
                  <a:srgbClr val="04617b"/>
                </a:solidFill>
                <a:latin typeface="Calibri"/>
              </a:rPr>
              <a:t>Wiki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42884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36440" indent="-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Bernard MT Condensed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Adresa Wiki: </a:t>
            </a:r>
            <a:r>
              <a:rPr b="0" lang="ro-RO" sz="1600" spc="-1" strike="noStrike" u="sng">
                <a:solidFill>
                  <a:srgbClr val="e2d700"/>
                </a:solidFill>
                <a:uFillTx/>
                <a:latin typeface="Arial"/>
                <a:ea typeface="Arial"/>
                <a:hlinkClick r:id="rId1"/>
              </a:rPr>
              <a:t>http://istorietd.wikispaces.com/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36440" indent="-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f6fc6"/>
                </a:solidFill>
                <a:latin typeface="Arial"/>
                <a:ea typeface="Arial"/>
              </a:rPr>
              <a:t>SARCINA1-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Realizați individual o comparație între monarhia absolută și monarhia constituțională folosindu-vă de diagrama Venn. Completați apoi această diagramă în grup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36440" indent="-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f6fc6"/>
                </a:solidFill>
                <a:latin typeface="Arial"/>
                <a:ea typeface="Arial"/>
              </a:rPr>
              <a:t>SARCINA 2 -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Găsiți asemănări și deosebiri între revoluția engleză și americană folosindu-vă de diagrama Venn. Completați apoi această diagramă în grup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36440" indent="-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f6fc6"/>
                </a:solidFill>
                <a:latin typeface="Arial"/>
                <a:ea typeface="Arial"/>
              </a:rPr>
              <a:t>SARCINA 3 -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C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t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și selection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inform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i si imagini semnificative despre cele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3 revoluții burghez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pentru a le organiza intr-o prezentare Power Point(10 slide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36440" indent="-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f6fc6"/>
                </a:solidFill>
                <a:latin typeface="Arial"/>
                <a:ea typeface="Arial"/>
              </a:rPr>
              <a:t>SARCINA 4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- Realizaţi o publicaţie (buletin informativ, ziar, broşură, afiş) pentru prezentarea momentelor-cheie ale revolutiei franceze.Pentru aceasta puteţi folosi şabloan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36440" indent="-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- Realizați o publicaţie (afiş, broşură, pliant) pentru promovarea sloganului revoluției franceze –„Libertate, egalitate,fraternitate”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36440" indent="-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f6fc6"/>
                </a:solidFill>
                <a:latin typeface="Arial"/>
                <a:ea typeface="Arial"/>
              </a:rPr>
              <a:t>SARCINA 5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- Realizați o prezentare PPT despre revoluțiile burgheze ale sec. XVII-XVIII, Pornind de la întrebarea esențială-Cum pot fi evitate greșelile trecutului?-. Prezentarea trebuie să conțină minim 10 slide,pagina-titlu, imagini sugestive, cuprins, concluzii, bibliografie(web si scrisă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36440" indent="-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f6fc6"/>
                </a:solidFill>
                <a:latin typeface="Arial"/>
                <a:ea typeface="Arial"/>
              </a:rPr>
              <a:t>SARCINA 6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- Evaluare sumativă, joi, 3.06.2010</a:t>
            </a:r>
            <a:br>
              <a:rPr sz="1600"/>
            </a:b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- Revizuiţi şi completaţi, acolo unde este cazul, toate materialele grupei sau cele personale.</a:t>
            </a:r>
            <a:br>
              <a:rPr sz="1600"/>
            </a:b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- Nota finală va fi calculată ca medie între notele de la testul final (25%), prezentarea orală (25%), munca în echipă (25%), portofoliu (25%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36440" indent="-136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CasetăText 3"/>
          <p:cNvSpPr/>
          <p:nvPr/>
        </p:nvSpPr>
        <p:spPr>
          <a:xfrm>
            <a:off x="5072040" y="62150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Evaluare initi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500" spc="-1" strike="noStrike">
                <a:solidFill>
                  <a:srgbClr val="04617b"/>
                </a:solidFill>
                <a:latin typeface="Calibri"/>
              </a:rPr>
              <a:t>Graficul de timp pentru evalua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Evaluare inițial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KWL; Listă verificare abilități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Evaluare formativ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Diagrame Ven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Fișe de activitate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Fișe de autoevaluare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Jurnal de reflecție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Evaluare sumativ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Portofoliu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Test sumativ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Fișe de verificare PP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Fișe de autoevaluare; Listă verificare portofoliu elev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Resur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  <a:ea typeface="Arial"/>
              </a:rPr>
              <a:t>PROGRAME ŞCOLARE PENTRU gimnaziu</a:t>
            </a:r>
            <a:r>
              <a:rPr b="0" i="1" lang="it-IT" sz="2600" spc="-1" strike="noStrike">
                <a:solidFill>
                  <a:srgbClr val="000000"/>
                </a:solidFill>
                <a:latin typeface="Arial"/>
                <a:ea typeface="Arial"/>
              </a:rPr>
              <a:t> – Aria curriculară Istorie  CLASA A VI-A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  <a:ea typeface="Arial"/>
              </a:rPr>
              <a:t>MINISTERUL EDUCAŢIEI, CERCETĂRII ŞI TINERETULUI, CONSILIUL NAŢIONAL PENTRU CURRICULU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500" spc="-1" strike="noStrike">
                <a:solidFill>
                  <a:srgbClr val="04617b"/>
                </a:solidFill>
                <a:latin typeface="Calibri"/>
              </a:rPr>
              <a:t>Bibliografi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Manuale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Liviu Burlec, Liviu Lazăr, Bogdan Teodorescu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storie, manual pentru clasa a VI-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, Editura All,199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ANDREI Pippidi, Monica Dvorski, Ioan Grosu,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storie, manual pentru clas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a VI-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, Editura Corint, 2000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Lucrări tipărite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Helie Jerome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Mic atlas istoric al Timpurilor moderne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, Polirom,200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Almas, Dumitru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derea Bastilie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, Bucuresti, 1959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Berstein Serge, Milza Pierre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storia Europe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, vol. 3, Iasi, Institutul European, 199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Ciachir Nicolae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storie universal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modern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a, vol II, Bucuresti, Ed. Oscar Print, 199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ntel®Teach Program, Essentials Course, Intel®Teach – Predarea în societatea cunoaşterii, Manual Participant Teacher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nternet: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Site-uri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e-scoala.ro/informatica/index.html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ro.wikipedia.org/wiki/Portal:Educaţie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ww.didactic.r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referat</a:t>
            </a:r>
            <a:r>
              <a:rPr b="0" lang="ro-RO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/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785960"/>
            <a:ext cx="8229600" cy="61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ro-RO" sz="45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642680" y="2786040"/>
            <a:ext cx="54291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0000"/>
                </a:solidFill>
                <a:latin typeface="Constantia"/>
              </a:rPr>
              <a:t>Vă mulțumesc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4:46:44Z</dcterms:created>
  <dc:creator>Teo</dc:creator>
  <dc:description/>
  <dc:language>en-US</dc:language>
  <cp:lastModifiedBy>Alexandra</cp:lastModifiedBy>
  <dcterms:modified xsi:type="dcterms:W3CDTF">2010-06-16T10:29:35Z</dcterms:modified>
  <cp:revision>19</cp:revision>
  <dc:subject/>
  <dc:title>Intel Teach turda</dc:title>
</cp:coreProperties>
</file>